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AF0EB-7535-44CA-B821-5E21832A2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BF1C9-9938-4CFA-B698-346F32FE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5C7BD-6664-4A40-8206-F55D30DDB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01D28-4327-4A59-B313-CD860731B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9D79-2117-42CD-8568-CAE2E916D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7E740-1EAE-4D5B-8F0A-71242976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0B20A-2D13-494D-B95C-EF34960F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6DB1-5B4D-4802-9904-648DA14A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5928-0B3A-4691-946F-99B838BD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5A53-72A3-4CF1-A868-D64C1C9F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0D2B-C34C-4686-A792-809B74EE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97D34-B74D-4B27-B868-5ED5399B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AB5EC-8AC5-4E80-A6A3-0D63DB5F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6186-8734-42B1-B2CD-D99391A8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7A6E-DBC9-412D-B792-913E4280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499E-DBDB-4B2F-886C-D75EC6CBF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C2CE-DEBC-462C-9A87-F797C85D2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10E56-B7AB-46EF-90C1-32D191E8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5C068-F42C-455E-A323-3A0EB2DE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D0628-16BB-4947-B004-A909F024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2274C-DF9E-4CF4-AF8A-205F8725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96822-7725-4208-B838-8890A2B1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97E87-CC61-41DB-A5E9-66E8DA2D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F920C-6867-4E6D-B311-25F9D2F3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714C-D547-4F94-90BC-459F7F20CF3B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7c0704"/>
                </a:gs>
                <a:gs pos="100000">
                  <a:srgbClr val="33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822504"/>
                </a:gs>
                <a:gs pos="100000">
                  <a:srgbClr val="33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e2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8225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e2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e2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82250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e2a0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8225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7c0704"/>
                </a:gs>
                <a:gs pos="100000">
                  <a:srgbClr val="33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8225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822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822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82250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e2a0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8225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14A8-25B8-4ABC-9241-C0BE8EF5A601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ffffff"/>
                </a:solidFill>
                <a:uFillTx/>
                <a:latin typeface="comic"/>
              </a:rPr>
              <a:t>Industrialization and the Progressive Respons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nything </a:t>
            </a:r>
            <a:r>
              <a:rPr b="1" lang="en-US" sz="2100" spc="-1" strike="noStrike" u="sng">
                <a:solidFill>
                  <a:srgbClr val="ffffff"/>
                </a:solidFill>
                <a:uFillTx/>
                <a:latin typeface="Arial"/>
              </a:rPr>
              <a:t>bolded and underlined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is something you definitely need to know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y were the farmers ma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one got something good out of the deal except the farmer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ap 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tern banks made out quite w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led to the creation of the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ange mov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rmers attempted to organize to help themselves – formed “cooperatives” – tried to increase prof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terstate Commerce 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22504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pped RR from giving reb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22504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d the Interstate Commerce Commi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822504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ndom note – because of trains we have time zones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stion of Mone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rmers wanted more paper money (wanted inflation) - easier for deb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nkers wanted money backed by th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old standard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de repayment better for them – no inf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tually ended up passing a law that was semi-helpful to far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Outcome of these Rural happenings was the </a:t>
            </a:r>
            <a:r>
              <a:rPr b="1" lang="en-US" sz="3500" spc="-1" strike="noStrike" u="sng">
                <a:solidFill>
                  <a:srgbClr val="ffffff"/>
                </a:solidFill>
                <a:uFillTx/>
                <a:latin typeface="Arial"/>
              </a:rPr>
              <a:t>Populist Party (populism)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rmers, labor leaders, refor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duated income ta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nk reg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vernment ownership of RR and communication mediu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migration restri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illiam Jennings Bryan – key represent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gressive Mov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ing gap between rich and po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essives were the urban popul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ized the ills of industrial society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nted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22504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cus on urban probl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22504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safe working cond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22504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d sani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22504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rrupt political mach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gressive Ide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justice – federal graduated income t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 view of social darwi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for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pired by mass-circulation journal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mopolitan magaz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uckrakers – realism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da Tarbe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History of Standard O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cob Riis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ow the Other Half L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ton Sinclair,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Jung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king to solve some of the major social problems of the 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forming the workpla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ations pai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ges (national minimum wage – 193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o was work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ws were passed but they were hard to enfo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rgument against la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22504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d 14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mendment – “prohibits states from depriving any person of life, liberty, pr property without process of law” – it was unfair to take away their livelihoo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ghting for reform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L (sti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wing in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ghting for closed shops (not op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ational Workers of the World (Wobl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alist – very radical – many did not lik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ll Hayw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cietal Refor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ok publishing, movie production, baseb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ty pla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ohibition  - 18</a:t>
            </a:r>
            <a:r>
              <a:rPr b="1" lang="en-US" sz="2400" spc="-1" strike="noStrike" u="sng" baseline="30000">
                <a:solidFill>
                  <a:srgbClr val="ffffff"/>
                </a:solidFill>
                <a:uFillTx/>
                <a:latin typeface="Arial"/>
              </a:rPr>
              <a:t>th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amendment – repealed in 193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omen’s suffrage (19</a:t>
            </a:r>
            <a:r>
              <a:rPr b="1" lang="en-US" sz="2400" spc="-1" strike="noStrike" u="sng" baseline="30000">
                <a:solidFill>
                  <a:srgbClr val="ffffff"/>
                </a:solidFill>
                <a:uFillTx/>
                <a:latin typeface="Arial"/>
              </a:rPr>
              <a:t>th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Amendment) 1920 (we’ll come back to th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k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lions of workers were need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uction in facto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quisition of raw materi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portation of go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men and African Americans met with especially fierce ine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891 – 7400 Southern blacks have industrial job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822504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ember – there were 4million freed slaves in 1865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skilled labor had dirty, disgusting jo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men and children worked too – out of neces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ce Related Refor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.E.B. DuBo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Association for the Advancement of Colored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n Indian progress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ne Addams to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y the w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morrow’s registration day – take a look at the classes available to you – we went over them the other day in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W Tonight: Read excerpt from Jane Addams - you must read this and come in with it mark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ght also want to take a look at the notes you have taken on some of our most recent studies.  Tomorrow would be a good day for a short qui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’t forget janosco’s reading of daisy miller ei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wner opinion of lab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loyees were inputs into the pro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 days a week, many hours, bad conditions, little pay – no humane consid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ners felt no respon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ny towns – paid in scr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 to sharecropp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to combat such injustic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Knights of Lab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n to workers traditionally excluded from other un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men, men, skilled, and unskilled, and later, African Americans too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9e2a06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NEVER CHINESE WORK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822504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ts in with Chinese Exclusion Act – prejudice – need based en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ther Jones – labor lea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L were looking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822504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 hour da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822504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qual pay for equal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822504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d child lab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Great Upheav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ers needed rights – huge wage cu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response, 1886 – 1500 strikes involving 400,000 wor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cago workers –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aymarket Squa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organized by anarchists -met with violence when a bomb explo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How did companies fight bac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ackl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llow dog contr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kou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kebrea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response to the Knights’ ca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merican Federation of Lab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AFL) was cre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ed to skilled lab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22504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associate themselves with the trouble ma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uel Gompers (the guy from the Triangle Shirtwaist factory pack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mous Strik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omeste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ike – lockout / strikebreakers (“Detectives”) - viol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ull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ny town prices went up, wages went down, workers boycotted, trains were hooked up to mail cars, fed gov forced boycotts en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ural Progressiv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s farmers fac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production shrank profits and demand, prices continue to dr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milies bought more land to produce more (to make more money) but dropped prices even m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milies could not pay lo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k repossessed their 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03:46:26Z</dcterms:created>
  <dc:creator>Darien Public Schools</dc:creator>
  <dc:description/>
  <dc:language>en-US</dc:language>
  <cp:lastModifiedBy>Balazs, Stephen</cp:lastModifiedBy>
  <dcterms:modified xsi:type="dcterms:W3CDTF">2017-03-08T00:59:40Z</dcterms:modified>
  <cp:revision>7</cp:revision>
  <dc:subject/>
  <dc:title>Industrialization and the Progressive Response</dc:title>
</cp:coreProperties>
</file>